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C505-A8EA-44D3-BFD3-5F119C52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D14D-FA93-4E00-8F06-6917F254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EE1-8F09-4D5A-8812-9AF2E175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06F-71FD-4F4E-8482-999E8031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8ECE-15AC-4F26-9C19-A9546898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BADA-6CB7-44D0-BD77-F8EE6AFC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7FAE-8DD9-424E-A09B-E2774D6B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6E9A-76DF-40F2-B258-A53B3EBF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F1F6-C1C4-4D1A-8A4C-9F6C34CF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C558-3C8C-4C2D-B6B5-E1506AD3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A39F-19B5-47AF-A1C3-22C92048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ABA2-6EC0-4EF4-955B-AEB8ADED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C123-580D-4928-AA6F-54D77878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BCE3-06F0-4A08-8195-CF0A7F82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15A9-2720-430D-8A24-63690CC5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AED4-4C62-4AAB-B700-ADB5583C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E44F-B19B-4689-8902-60854D00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02F-760B-4E09-A497-E792E936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3E28-844D-4B33-B1A7-A2AE4A84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BA8-00C7-41C2-BCB5-C5C85738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AFE-6169-4412-AA1F-373FFC98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46D3-ADD3-4494-A178-603E56AC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12B9-0E02-4C4D-8077-AA1BBE47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08E3-B9E8-48D3-9EE3-C29E7BBE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F9A2-5ED7-46C6-B44D-0840C5E3B0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6A6C-3D25-4BD1-B7AF-9F0B14F952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tt-RU" sz="4400" spc="-1" strike="noStrike">
                <a:solidFill>
                  <a:srgbClr val="221304"/>
                </a:solidFill>
                <a:latin typeface="SLPeterburg Cyr"/>
              </a:rPr>
              <a:t>Зат алмашлыклары кайсы сүз төркемен алмаштырып килә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LPeterburg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SLPeterburg Cyr"/>
              </a:rPr>
              <a:t>исем (м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LPeterburg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SLPeterburg Cyr"/>
              </a:rPr>
              <a:t>сыйфат (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LPeterburg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SLPeterburg Cyr"/>
              </a:rPr>
              <a:t>фигыл</a:t>
            </a:r>
            <a:r>
              <a:rPr b="0" lang="ru-RU" sz="3200" spc="-1" strike="noStrike">
                <a:solidFill>
                  <a:srgbClr val="000000"/>
                </a:solidFill>
                <a:latin typeface="SLPeterburg Cyr"/>
              </a:rPr>
              <a:t>ь (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221304"/>
                </a:solidFill>
                <a:latin typeface="SLPeterburg Cyr"/>
              </a:rPr>
              <a:t>Зат алмашлыклары нәрсәләр белән төрләнә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LPeterburg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SLPeterburg Cyr"/>
              </a:rPr>
              <a:t>заман (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LPeterburg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SLPeterburg Cyr"/>
              </a:rPr>
              <a:t>килешләр (</a:t>
            </a:r>
            <a:r>
              <a:rPr b="0" lang="tt-RU" sz="3200" spc="-1" strike="noStrike">
                <a:solidFill>
                  <a:srgbClr val="000000"/>
                </a:solidFill>
                <a:latin typeface="SL_Times New Roman"/>
              </a:rPr>
              <a:t>у</a:t>
            </a:r>
            <a:r>
              <a:rPr b="0" lang="tt-RU" sz="3200" spc="-1" strike="noStrike">
                <a:solidFill>
                  <a:srgbClr val="000000"/>
                </a:solidFill>
                <a:latin typeface="SLPeterburg Cyr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LPeterburg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SLPeterburg Cyr"/>
              </a:rPr>
              <a:t>барлык һәм юклык (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tt-RU" sz="3600" spc="-1" strike="noStrike">
                <a:solidFill>
                  <a:srgbClr val="221304"/>
                </a:solidFill>
                <a:latin typeface="SLPeterburg Cyr"/>
              </a:rPr>
              <a:t>Килешләр белән төрләнгәндә, кайсы зат алмашлыгының тамыры икенче сүз белән алмаша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LPeterburg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SLPeterburg Cyr"/>
              </a:rPr>
              <a:t>мин (р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LPeterburg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SLPeterburg Cyr"/>
              </a:rPr>
              <a:t>син (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LPeterburg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SLPeterburg Cyr"/>
              </a:rPr>
              <a:t>ул (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tt-RU" sz="4400" spc="-1" strike="noStrike">
                <a:solidFill>
                  <a:srgbClr val="221304"/>
                </a:solidFill>
                <a:latin typeface="SLPeterburg Cyr"/>
              </a:rPr>
              <a:t>Кайсы алмашлыкны куярга икәнен нинди сүз төркеменә карап белеп бул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LPeterburg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SLPeterburg Cyr"/>
              </a:rPr>
              <a:t>исем (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LPeterburg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SLPeterburg Cyr"/>
              </a:rPr>
              <a:t>сыйфат (у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LPeterburg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SLPeterburg Cyr"/>
              </a:rPr>
              <a:t>фигыл</a:t>
            </a:r>
            <a:r>
              <a:rPr b="0" lang="ru-RU" sz="3200" spc="-1" strike="noStrike">
                <a:solidFill>
                  <a:srgbClr val="000000"/>
                </a:solidFill>
                <a:latin typeface="SLPeterburg Cyr"/>
              </a:rPr>
              <a:t>ь</a:t>
            </a:r>
            <a:r>
              <a:rPr b="0" lang="tt-RU" sz="3200" spc="-1" strike="noStrike">
                <a:solidFill>
                  <a:srgbClr val="000000"/>
                </a:solidFill>
                <a:latin typeface="SLPeterburg Cyr"/>
              </a:rPr>
              <a:t> (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«ЧӘЧӘК КЕНӘ, ГӨЛ ГЕНӘ БЕЗНЕҢ ТУГАН ИЛ ГЕНӘ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2560680" cy="316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1908000" y="1773360"/>
          <a:ext cx="2448000" cy="61092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са Җәлил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Rectangle 18"/>
          <p:cNvSpPr/>
          <p:nvPr/>
        </p:nvSpPr>
        <p:spPr>
          <a:xfrm>
            <a:off x="4113360" y="33130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1765080" y="565992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06-1944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4572000" y="1989000"/>
            <a:ext cx="3889440" cy="42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L_Times New Roman"/>
              </a:rPr>
              <a:t>Үлемсез шигырьләр язып дөнья халкын сокландырган Муса Җәлил  Оренбург өлкәсендәге Мостафа авылында туа. </a:t>
            </a:r>
            <a:r>
              <a:rPr b="1" lang="ru-RU" sz="1800" spc="-1" strike="noStrike">
                <a:solidFill>
                  <a:srgbClr val="000000"/>
                </a:solidFill>
                <a:latin typeface="SL_Times New Roman"/>
              </a:rPr>
              <a:t>Ул</a:t>
            </a:r>
            <a:r>
              <a:rPr b="0" lang="ru-RU" sz="1800" spc="-1" strike="noStrike">
                <a:solidFill>
                  <a:srgbClr val="000000"/>
                </a:solidFill>
                <a:latin typeface="SL_Times New Roman"/>
              </a:rPr>
              <a:t> кече яшьтән үк тырыш, эш сөючән, зирәк була. Мәктәптә башкалардан иң оста җырлавы һәм иң оста шигырь сөйләве белән аерылып тора. </a:t>
            </a:r>
            <a:r>
              <a:rPr b="1" lang="ru-RU" sz="1800" spc="-1" strike="noStrike">
                <a:solidFill>
                  <a:srgbClr val="000000"/>
                </a:solidFill>
                <a:latin typeface="SL_Times New Roman"/>
              </a:rPr>
              <a:t>Ул </a:t>
            </a:r>
            <a:r>
              <a:rPr b="0" lang="ru-RU" sz="1800" spc="-1" strike="noStrike">
                <a:solidFill>
                  <a:srgbClr val="000000"/>
                </a:solidFill>
                <a:latin typeface="SL_Times New Roman"/>
              </a:rPr>
              <a:t>беренче шигырен 9 яшендә яза. Муса Җәлилгә  хәзер 100 яшь булыр иде. </a:t>
            </a:r>
            <a:r>
              <a:rPr b="1" lang="ru-RU" sz="1800" spc="-1" strike="noStrike">
                <a:solidFill>
                  <a:srgbClr val="000000"/>
                </a:solidFill>
                <a:latin typeface="SL_Times New Roman"/>
              </a:rPr>
              <a:t>Ул</a:t>
            </a:r>
            <a:r>
              <a:rPr b="0" lang="ru-RU" sz="1800" spc="-1" strike="noStrike">
                <a:solidFill>
                  <a:srgbClr val="000000"/>
                </a:solidFill>
                <a:latin typeface="SL_Times New Roman"/>
              </a:rPr>
              <a:t> шигырьләр, җырлар күп иҗат иткән. Балалар </a:t>
            </a:r>
            <a:r>
              <a:rPr b="1" lang="ru-RU" sz="1800" spc="-1" strike="noStrike">
                <a:solidFill>
                  <a:srgbClr val="000000"/>
                </a:solidFill>
                <a:latin typeface="SL_Times New Roman"/>
              </a:rPr>
              <a:t>ул</a:t>
            </a:r>
            <a:r>
              <a:rPr b="0" lang="ru-RU" sz="1800" spc="-1" strike="noStrike">
                <a:solidFill>
                  <a:srgbClr val="000000"/>
                </a:solidFill>
                <a:latin typeface="SL_Times New Roman"/>
              </a:rPr>
              <a:t> язган җырларны яратып җырлыйла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lsina</cp:lastModifiedBy>
  <dcterms:modified xsi:type="dcterms:W3CDTF">2011-07-20T18:15:29Z</dcterms:modified>
  <cp:revision>7</cp:revision>
  <dc:subject/>
  <dc:title>PowerPoint Presentation</dc:title>
</cp:coreProperties>
</file>